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7DE7-8067-43CE-8D89-1AD887E941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tarter quiz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tarter qui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rection is the opposite to clockwi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rection is the opposite to clockwi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iclockwi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clockw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issing numb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0 divided by ?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issing nu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 divided by ? =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hape is a pie char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ape is a pie char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lar, 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r, 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centimetres in 1.8 m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centimetres in 1.8 m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issing sig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 ?  9  = 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issing sig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?  9  =  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missing numb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  X  ?  =  1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issing numb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 X  ?  = 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line of symmetry on your bod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line of symmetry on your bod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wn the middle from top to bottom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 the middle from top to botto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/10  -  Superst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/10  -  Very Good inde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/10  -  Good on ya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/10  -  O.K (ish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/10  -  Go home and learn you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/10  -  Supersta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/10  -  Very Good inde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/10  -  Good on y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/10  -  O.K (ish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/10  -  Go home and learn you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2D shape has 5 sid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2D shape has 5 sid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NTA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TA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numbers between 0 and 14 are impossible to get with a throw of 2 dic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numbers between 0 and 14 are impossible to get with a throw of 2 dic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 and  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and 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years are there in a centu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years are there in a centu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199D-31FB-41E2-B485-E5FAB64AC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D856-D462-44FF-922B-E72885BF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20E0-FCC9-418E-BDAB-52C5D2469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5A21-97A3-4184-BED4-44E58AE37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C3E6-0A3E-4A9C-8055-753129EE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733B-89DF-497F-BE0C-06E3E0C7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5AB1-7552-412C-9F1F-D2E3950D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D6D6-89E5-449E-8DC4-C41F9A7D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1D84-B24B-4206-B513-9E88C678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2033-0147-4E8C-A340-A5BC611CA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AB14-F3B8-4BBF-8CE1-98C02671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9C2C-E170-42DC-9D9C-B1A19451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2015-BFD2-45AC-8F95-9DF8681B8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icsearch.com/info.cgi?q=question%20marks&amp;id=fxDpCZ5s6hjg-Q85jYAcRDT26V40JV0roz4pkS1ahqE&amp;opt=%26cols%3D4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826920" y="1557360"/>
            <a:ext cx="4638960" cy="316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0 starter quiz 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questions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9" name="Picture 6" descr="Click to view image detail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628640"/>
            <a:ext cx="2735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at direction is the opposite to clockwis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Anticlockwis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at is the missing numbe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37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70 divided by ? = 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at shape is a pie char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Circular, rou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4920" y="2133720"/>
            <a:ext cx="8218440" cy="20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How many centimetres in 1.8 m?</a:t>
            </a: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at is the missing sign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4220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3  ?  9  =  2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at is the missing number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320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8  X  ?  =  18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ere is the line of symmetry on your bod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Down the middle from top to bottom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0/10  -  Supersta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9/10  -  Very Good indee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8/10  -  Good on ya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7/10  -  O.K (ish!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6/10  -  Go home and learn your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ork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ich 2D shape has 5 side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PENTAG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852640"/>
            <a:ext cx="820728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hich numbers between 0 and 14 are impossible to get with a throw of 2 dice?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  and  1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How many years are there in a centur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1:53:06Z</dcterms:created>
  <dc:creator>Technical Services</dc:creator>
  <dc:description/>
  <dc:language>en-US</dc:language>
  <cp:lastModifiedBy>LEGION</cp:lastModifiedBy>
  <dcterms:modified xsi:type="dcterms:W3CDTF">2015-09-08T10:36:37Z</dcterms:modified>
  <cp:revision>26</cp:revision>
  <dc:subject/>
  <dc:title>Math starter quiz What is the missing number?</dc:title>
</cp:coreProperties>
</file>